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10075863" cy="75628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087560" y="471168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42880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5208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16600" y="222372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08756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95208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816600" y="4711680"/>
            <a:ext cx="272772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39440" y="117360"/>
            <a:ext cx="860436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428800" y="471168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8756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8800" y="2223720"/>
            <a:ext cx="4134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87560" y="4711680"/>
            <a:ext cx="8472240" cy="22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4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7560" y="2223720"/>
            <a:ext cx="847224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0560" indent="-43164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66920" indent="-43200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55640" indent="-431640">
              <a:lnSpc>
                <a:spcPct val="93000"/>
              </a:lnSpc>
              <a:buClr>
                <a:srgbClr val="ff9966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55640" indent="-431640">
              <a:lnSpc>
                <a:spcPct val="93000"/>
              </a:lnSpc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240680" y="6381720"/>
            <a:ext cx="2590560" cy="933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2057400" y="4572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Rounded MT Bold"/>
              </a:rPr>
              <a:t>WIKI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2878200" y="1765440"/>
            <a:ext cx="5029200" cy="37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Wiki Wa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708660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 wiki culture of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opennes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nd wiki etiquette is adopted by the user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6956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Wiki Wa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708660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iki </a:t>
            </a: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pages replace document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6956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Wiki Wa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708660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iki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notification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replace email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6956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ki Histor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087200" y="1371600"/>
            <a:ext cx="85136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rd Cunningham in 1995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deas from Apples 'Hypercard' product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A new idea: </a:t>
            </a:r>
            <a:r>
              <a:rPr b="1" i="1" lang="en-US" sz="3600" spc="-1" strike="noStrike">
                <a:solidFill>
                  <a:srgbClr val="280099"/>
                </a:solidFill>
                <a:latin typeface="Times New Roman"/>
              </a:rPr>
              <a:t>A link to an empty page becomes a link to create the page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first wiki is still alive at http://c2.com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iki was Ward's first attempt at programming in Perl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086600" y="316080"/>
            <a:ext cx="244332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ikipedia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76680" y="2089080"/>
            <a:ext cx="43099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age of Wiki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5541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st large organis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353988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age of Wiki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5541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ably all techn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ganisa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353988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age of Wiki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5541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y many others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353988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39440" y="117360"/>
            <a:ext cx="86058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age of Wikis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343400" y="1371600"/>
            <a:ext cx="554184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Source are though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76360" y="1413000"/>
            <a:ext cx="3539880" cy="521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61640"/>
            <a:ext cx="860580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11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Arial Black"/>
              </a:rPr>
              <a:t>The Hype is Real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: 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cial Media Invades the Inc. 500</a:t>
            </a:r>
            <a:br>
              <a:rPr sz="3600"/>
            </a:b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search Conducted by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Eric Mattson (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eric@ericmattson.com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Nora Ganim Barnes, Ph.D. (</a:t>
            </a:r>
            <a:r>
              <a:rPr b="0" lang="en-US" sz="28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nbarnes@umassd.edu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)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457200"/>
            <a:ext cx="75438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6440" y="355320"/>
            <a:ext cx="86058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Research by </a:t>
            </a:r>
            <a:br>
              <a:rPr sz="4000"/>
            </a:b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niversity of Massachusetts Dartmouth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91440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ff9966"/>
              </a:buClr>
              <a:buSzPct val="75000"/>
              <a:buFont typeface="StarSymbol"/>
              <a:buChar char="➲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ephone survey of the 500 fastest growing companies in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03280" indent="0">
              <a:lnSpc>
                <a:spcPct val="93000"/>
              </a:lnSpc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76200" y="2057400"/>
            <a:ext cx="7182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9620280" cy="697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9848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is a wiki?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wiki is many things. Here are the key features: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create and edit pages directly via a web browser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ge history, and the ability to roll back change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list of recently changed page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bility to create and edit pages directly via a web browser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age history, and the ability to roll back change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ent changes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087200" y="2269800"/>
            <a:ext cx="847404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arch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257800" y="228600"/>
            <a:ext cx="34290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nterprise wiki?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28240" y="1517760"/>
            <a:ext cx="6645240" cy="46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, space and group Permiss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ail notification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tachment search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YSIWYG Editing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SS Feed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port to PD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le Attachments and versio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ght Permission contro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lick interfac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0" y="1495440"/>
            <a:ext cx="2820960" cy="467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161640"/>
            <a:ext cx="860580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5892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The Wiki Way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708660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7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k is done </a:t>
            </a:r>
            <a:r>
              <a:rPr b="1" lang="en-US" sz="3600" spc="-1" strike="noStrike">
                <a:solidFill>
                  <a:srgbClr val="ff3333"/>
                </a:solidFill>
                <a:latin typeface="Comic Sans MS"/>
              </a:rPr>
              <a:t>collaboratively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on common wiki pages.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2057400"/>
            <a:ext cx="16956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ptop2</cp:lastModifiedBy>
  <dcterms:modified xsi:type="dcterms:W3CDTF">2007-05-22T04:10:45Z</dcterms:modified>
  <cp:revision>2</cp:revision>
  <dc:subject/>
  <dc:title>Slide 1</dc:title>
</cp:coreProperties>
</file>